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621240" y="-144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360" y="824076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BDB53C8-181C-475D-AB99-C85D3A6C9E4A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10000" y="82612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8B8D40BB-3E7E-4352-BE8C-8A415CDF761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03320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4E112BD-E86B-4724-9AB3-9CCDE5BB3D6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D650454-D9E7-439B-B76C-5AD0ED8D7F3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17D1754-C3F6-41BC-9CC3-73DE5280822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AFB9267-9B9E-4393-AF66-8A03416A4F1F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ACE1F1E-B10C-466E-9292-73B5178F6D1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8F542CDB-3D0B-43E7-9E37-C1868A8D8DA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8454B11-4FA8-4979-9BAC-395BA5305EE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26D619A-06FA-4BF1-918D-385657E1557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F6EAFCA-0F5B-42EB-BCF5-E79D59E73E3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10F4A9F-975D-4C96-AA79-9E98BD966F1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120E052-A25B-4948-BE91-E0731A0CB66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3621240" y="8240760"/>
            <a:ext cx="27684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7759146-95C6-431D-9AAC-3AEB01770E1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3356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52120" y="4119480"/>
            <a:ext cx="4684680" cy="39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929FA01-FA73-4952-AF99-B6A0621D37E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F0AD11A-6F3C-45A3-AA4E-A67F0163251F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5280" y="848880"/>
            <a:ext cx="8118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 R1: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Line of Code Counting Standar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tement Typ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0496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section to define how you will count various types of statements.  Consider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are you going to count procedure declarations and function prototyp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ill you count compiler directiv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you count comments?  Why or why no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1027080" y="3639960"/>
          <a:ext cx="437364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3639960"/>
                    <a:ext cx="437364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arific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1612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ully operational standard generally requires many notes and com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clarification section for this purpo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905040" y="3138480"/>
          <a:ext cx="437328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3138480"/>
                    <a:ext cx="437328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Many LOC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82280" y="1439640"/>
            <a:ext cx="7545240" cy="126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C++ LOC counting standard in table 4.3 on page 79, how many LOC are in the following program fragm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93880" y="2592360"/>
            <a:ext cx="49910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include &lt;stdio.h&gt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d main (void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 i,j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(i = 0; i &lt; 10; i++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(j = 0; j &lt; 10; j++)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3" marL="1371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t &lt;&lt; i &lt;&lt; “, ” &lt;&lt; j &lt;&lt; endl;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/Sugges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220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tandard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936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736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4960" y="1439640"/>
            <a:ext cx="7635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familiar with the PSP LOC counting standard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2000" y="4363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93800" y="1439640"/>
            <a:ext cx="7943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R1 are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the LOC counting standards that are appropriate for the programming language that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developing a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for developing a program to coun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93800" y="1439640"/>
            <a:ext cx="7872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nd document a standard for counting logical LOC for the language that you will use in this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the completed standard using the format in table 4.1 (page 76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4594320" y="1353960"/>
          <a:ext cx="437364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4320" y="1353960"/>
                    <a:ext cx="43736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2280" y="433080"/>
            <a:ext cx="78138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C Counting Standard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07840" y="1452600"/>
            <a:ext cx="3703320" cy="4649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mplate is a simplified version of the SEI measurement frame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is template to describe important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it to fit your needs or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148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496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LOC counting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ample is from table 4.2, page 77 in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Head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93800" y="1439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header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3"/>
          <p:cNvGraphicFramePr/>
          <p:nvPr/>
        </p:nvGraphicFramePr>
        <p:xfrm>
          <a:off x="1290600" y="3538440"/>
          <a:ext cx="619452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3538440"/>
                    <a:ext cx="61945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4"/>
          <p:cNvSpPr/>
          <p:nvPr/>
        </p:nvSpPr>
        <p:spPr>
          <a:xfrm>
            <a:off x="1401840" y="2467080"/>
            <a:ext cx="2436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ame you give this standar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433840" y="2443320"/>
            <a:ext cx="2436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language you are using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401840" y="4867200"/>
            <a:ext cx="243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4722840" y="4867200"/>
            <a:ext cx="33638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date you produced this standard (or revision)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74880" y="3067200"/>
            <a:ext cx="399960" cy="80640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9"/>
          <p:cNvSpPr/>
          <p:nvPr/>
        </p:nvSpPr>
        <p:spPr>
          <a:xfrm flipH="1">
            <a:off x="6216120" y="3041640"/>
            <a:ext cx="171720" cy="8445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2657520" y="4245120"/>
            <a:ext cx="361800" cy="666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1"/>
          <p:cNvSpPr/>
          <p:nvPr/>
        </p:nvSpPr>
        <p:spPr>
          <a:xfrm flipH="1" flipV="1">
            <a:off x="6276600" y="4257720"/>
            <a:ext cx="95400" cy="666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032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 Typ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82280" y="14396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are logical and phys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OC counts language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OC counts text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counting standard, you are counting log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855720" y="3156120"/>
          <a:ext cx="619452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156120"/>
                    <a:ext cx="61945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Oval 5"/>
          <p:cNvSpPr/>
          <p:nvPr/>
        </p:nvSpPr>
        <p:spPr>
          <a:xfrm>
            <a:off x="2473200" y="3147840"/>
            <a:ext cx="635040" cy="571680"/>
          </a:xfrm>
          <a:prstGeom prst="ellipse">
            <a:avLst/>
          </a:prstGeom>
          <a:noFill/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24:10Z</cp:lastPrinted>
  <dcterms:modified xsi:type="dcterms:W3CDTF">2018-09-06T00:17:02Z</dcterms:modified>
  <cp:revision>54</cp:revision>
  <dc:subject/>
  <dc:title>No Slide Title</dc:title>
</cp:coreProperties>
</file>